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BF0A8-88F2-49FE-B511-CF81F840A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34E23-988B-4319-9521-5E1FB186D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8D106-BF62-4A1A-947B-55682DB57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9013B-E10E-4A42-9EBD-77379D723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2DF58-9CFE-4037-8BB3-5ABCD72DA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C1347-1293-4F35-9380-A093F2B2D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A6E4-2BA6-4EF8-A12A-8E9C829E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D0DA9-059F-4684-A0D0-3F91A597D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489F3-8A6A-4A9D-8DFA-E2F17615E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14EA9-EB5F-4879-BFC9-C38FDDA97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2E986-C883-4AB9-829F-04C5F4759A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B9C16-6F7E-4C42-BA06-0F3A2E49E8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2264B-F297-475E-859F-7321D17E91E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How To Lear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ation Phase – Getting Star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teac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nct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iend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list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d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qui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in clas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i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also use analogies with students to explain the roles of teacher and students in the learn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guide, facilitate, present materials clearly, answer questions, model and provide some practice opportunities, but the teacher cannot learn the language for students or even make students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ust decide themselves th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ant to learn, a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to take initiative for seeking opportunities for learning, e.g. a soccer team or a theatrical p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Refle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rner-centred classroom requires students’ awareness of their learning proc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students to reflect on the components involved in language acquisition so they realize what they need to do to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time when you were learning a new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some of the learning activities that you found help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find most difficult about learning a new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f-Reflections on Language Learning</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ow do you like to learn a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do you like be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do you like lea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How is learning a language is similar to and different from learning in other sub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ersonal language goal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ucial step toward a learner-centred classroom is getting students involved in learning by having them set language goals for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setting is a strategy that needs to be taught to stu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can be either long- or short-te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term goals are used as enabling steps toward long-term goa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 students’ involvement by increasing the stake they have in the learning proc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students the opportunity to establish their own goals, in addition to or in collaboration with those set by the instructional progra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students to reflect their reasons for learning a Second Language (SL), which may in turn lead to increased moti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ng the learner-centred classroom</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is an environment that creates and fosters independent students who a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ware of their learning process &am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le to take control of their learn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must initially be created by the teacher and then accepted by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8288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paration phase is the time to lay the foundation or groundwork for creating a learner-centred classroom that is ready for strategies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hase needs to embedded in the language instructional curriculum so that students see discussions about strategies and thought processes as a natural part of regular class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occur automatically, but rather must be worked at so that all participants support the environment and are supported by th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whose learning abilities and strategies are acknowledged and encouraged will embrace strategies instruction as a way to further their own independence as active thin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ware are you of your own learning processes or strate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what conditions do you “learn” most successfu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Learning Responsibiliti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ly, teachers shouldered much of the responsibilities for learning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a learner-centred classroom, teachers and students sha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role – model &amp; facili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role – active participants who are ultimately responsible for their ow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need a clear understanding of class expectations from the beginning in order for the learner-centred classroom to be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room contracts and the use of learning anologies are two examples of how to start building a learner’s expectations toward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room contract consists of an agreement between teacher and students or students and students regarding how each will contribute to and behave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s are most useful if students provide the input on the agreement with guidance from the teac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remember your best and favourite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qualities made them good teac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characterize a good lear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3:44Z</dcterms:modified>
  <cp:revision>3</cp:revision>
  <dc:subject/>
  <dc:title>Learning How To Learn</dc:title>
</cp:coreProperties>
</file>